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9.png" ContentType="image/pn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5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BB6A82-75D1-4FB8-BEF4-6DEFC77299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70343C-1C00-41CF-9995-759F67C06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03320" y="695160"/>
            <a:ext cx="4849920" cy="34275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216FD6-93AA-4628-985A-ECA3CEC9B9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03320" y="695160"/>
            <a:ext cx="4849920" cy="3427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36FDB4-4C33-41DC-8FFA-EB22D8E849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E66010-8B3F-4510-B6F8-59265A092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03320" y="695160"/>
            <a:ext cx="4849920" cy="3427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FD6A1-1489-4A75-8AF4-DEB3482FAC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DFD2D-4040-416C-BAA3-C44D0D93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00CC9-8021-4459-AF37-D41DD2B8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AA10B-C194-4E7F-9D81-7164D6EA6C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E5E-F0AE-4C18-9A85-E8D319B78E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3E9-724B-4266-B4BD-5B232A0E53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E4E-CC41-498E-AD2F-8906153036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28F-7CDC-4D1F-995F-2D9182DD90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9C7-1EF7-47D0-85D8-79144AC9CC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8F8-E85B-4B62-AE86-24F41FFBC0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C4C-5A41-4FA8-A043-FCB1C1E6BE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BCF13-5842-40F5-B8BA-F534C553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BEF-949F-40AC-8E32-4482939C52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3BE8-5D17-442D-9C25-3B133548F7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4E8E-8434-40D1-86EC-90568610F7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3CD-776C-419A-900A-5498D645A1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F68-5DB9-4824-80A4-4AF7C02191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C5AD3-5795-4418-AC56-56F4ED0B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53E90-680D-4EEE-AB62-4FB082DC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5E9C4-5524-44AF-8FCD-4FAE1BDF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A4D78-2447-40ED-825B-0845C841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7522A-9C7F-4197-B6A8-478C4032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B147C-F707-43CB-B150-5D7568F7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A0AB3-AA26-4A33-A2A2-41F251B0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3D09C1-B6BA-465E-AF8C-78B81DA7DBA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54A2A88-A4D7-4634-8CD2-50D1DAB2F437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10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10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5.gi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28520"/>
            <a:ext cx="8228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3938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3527280"/>
            <a:ext cx="914400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99378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9070920" cy="6373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-1189080" y="-747720"/>
            <a:ext cx="950436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57040" y="580536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4440240" cy="2743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98880" y="4309920"/>
            <a:ext cx="4310280" cy="2529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38160"/>
            <a:ext cx="4309920" cy="2836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889520" y="0"/>
            <a:ext cx="4254480" cy="3214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2490840" y="2220840"/>
            <a:ext cx="4172040" cy="26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99378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9070920" cy="6373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-1189080" y="-747720"/>
            <a:ext cx="950436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39640" y="5451480"/>
            <a:ext cx="60984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00908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2996720" y="260280"/>
            <a:ext cx="4611960" cy="307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-8101080" y="692280"/>
            <a:ext cx="9001080" cy="5715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8101080" y="177336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0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01 0.39469 C -0.13993 0.4044 -0.14913 0.40555 -0.20191 0.40209 C -0.22344 0.39723 -0.24514 0.3963 -0.2665 0.38914 C -0.28334 0.38428 -0.30035 0.37781 -0.31788 0.37365 C -0.36181 0.34775 -0.29827 0.38359 -0.34653 0.3607 C -0.35816 0.35515 -0.36893 0.34775 -0.38056 0.3422 C -0.39011 0.32856 -0.38125 0.33896 -0.39948 0.32694 C -0.40521 0.32301 -0.41007 0.31723 -0.41632 0.31399 C -0.41962 0.31145 -0.42309 0.31006 -0.42656 0.30821 C -0.43924 0.30035 -0.4467 0.28972 -0.46094 0.28486 C -0.46459 0.28162 -0.46858 0.27746 -0.4724 0.27445 C -0.4757 0.27191 -0.47969 0.27191 -0.48281 0.2696 C -0.49618 0.25896 -0.50434 0.24948 -0.51841 0.24301 C -0.52483 0.23422 -0.53264 0.22821 -0.54063 0.22266 C -0.54705 0.21226 -0.55469 0.20648 -0.5625 0.19931 C -0.56702 0.19422 -0.57031 0.18798 -0.57431 0.18313 C -0.57726 0.17758 -0.57865 0.17018 -0.5816 0.16463 C -0.58854 0.15168 -0.59809 0.13873 -0.60538 0.12578 C -0.60886 0.11908 -0.61493 0.10474 -0.61893 0.09989 C -0.62014 0.09827 -0.62222 0.09827 -0.62413 0.09665 C -0.62639 0.09503 -0.62865 0.09365 -0.63091 0.0918 C -0.63299 0.09018 -0.6342 0.08763 -0.63577 0.08694 C -0.64115 0.08209 -0.64827 0.08139 -0.65486 0.07815 C -0.68594 0.08139 -0.71511 0.08948 -0.74653 0.0918 C -0.7632 0.09573 -0.77917 0.09989 -0.79601 0.10243 C -0.80486 0.10151 -0.81406 0.10058 -0.82292 0.09989 C -0.83854 0.09735 -0.85243 0.08139 -0.86736 0.07584 C -0.87379 0.07076 -0.88143 0.0659 -0.88802 0.06035 C -0.89792 0.05064 -0.90209 0.04509 -0.91337 0.03931 C -0.92847 0.0222 -0.92136 0.02636 -0.93195 0.02081 C -0.94011 0.0118 -0.94948 0.00694 -0.95747 -0.00185 C -0.98195 -0.02936 -1.00712 -0.05526 -1.03559 -0.07075 C -1.04306 -0.08115 -1.05 -0.08508 -1.05972 -0.09179 C -1.07205 -0.09872 -1.07743 -0.10612 -1.09167 -0.10936 C -1.12188 -0.10844 -1.15261 -0.10844 -1.18212 -0.10127 C -1.22483 -0.09179 -1.26476 -0.06728 -1.30851 -0.06242 C -1.34132 -0.04878 -1.31563 -0.05849 -1.3967 -0.06242 C -1.42795 -0.06404 -1.45521 -0.07953 -1.4849 -0.08832 C -1.49323 -0.09479 -1.5007 -0.10474 -1.50886 -0.10936 C -1.51216 -0.11167 -1.51597 -0.1126 -1.51893 -0.11514 C -1.52101 -0.11583 -1.52257 -0.11907 -1.52431 -0.12 C -1.52743 -0.12231 -1.53455 -0.12462 -1.53455 -0.12393 C -1.54531 -0.13618 -1.55955 -0.14011 -1.57188 -0.14566 C -1.58611 -0.15213 -1.59913 -0.16208 -1.6125 -0.16693 C -1.64219 -0.16578 -1.67257 -0.17086 -1.70104 -0.16208 C -1.70903 -0.15861 -1.71667 -0.15144 -1.72466 -0.14913 C -1.74827 -0.13919 -1.77379 -0.13502 -1.79809 -0.13271 C -1.8099 -0.13433 -1.82309 -0.1304 -1.83368 -0.13849 C -1.84896 -0.14982 -1.85434 -0.16578 -1.87101 -0.17502 C -1.88073 -0.17988 -1.89011 -0.18381 -1.89983 -0.18774 C -1.90452 -0.18936 -1.91372 -0.19237 -1.91372 -0.19167 E">
                                      <p:cBhvr>
                                        <p:cTn id="18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nodeType="click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112 -17 L -4.21965 -6 C 0.00295000000000023 -0.00138000000000016 0.00573 -0.00277 0.00816 -0.00439 C 0.0125 -0.00693 0.02031 -0.01271 0.02031 -0.01248 C 0.02587 -0.02104 0.04236 -0.03653 0.0526 -0.04 C 0.06076 -0.05133 0.06962 -0.06774 0.07899 -0.07768 C 0.08559 -0.08462 0.09653 -0.08855 0.10503 -0.09225 C 0.11441 -0.10173 0.12569 -0.10497 0.13733 -0.11098 C 0.16875 -0.12763 0.18924 -0.12786 0.22622 -0.12994 C 0.24722 -0.12855 0.26788 -0.12693 0.28889 -0.12554 C 0.29167 -0.12531 0.30521 -0.12277 0.30885 -0.12138 C 0.31528 -0.11953 0.32708 -0.11514 0.32708 -0.11491 C 0.34826 -0.09364 0.36875 -0.083 0.39566 -0.07121 C 0.4059 -0.06659 0.4158 -0.05988 0.42604 -0.05456 C 0.43524 -0.04971 0.44462 -0.04994 0.45399 -0.04624 C 0.47188 -0.03907 0.48958 -0.0356 0.50851 -0.03352 C 0.53333 -0.03422 0.55833 -0.03445 0.58316 -0.03583 C 0.59219 -0.0363 0.60938 -0.04185 0.60938 -0.04161 C 0.61858 -0.04832 0.62934 -0.05086 0.63976 -0.05456 C 0.66024 -0.06196 0.65521 -0.06381 0.6658 -0.07329 C 0.69583 -0.09965 0.65347 -0.06173 0.68212 -0.0837 C 0.68507 -0.08624 0.68715 -0.08948 0.69028 -0.09225 C 0.69219 -0.09364 0.69427 -0.09502 0.69618 -0.09641 C 0.69688 -0.09849 0.6967 -0.10104 0.69809 -0.10265 C 0.69965 -0.10404 0.7026 -0.10335 0.70434 -0.1045 C 0.70938 -0.1082 0.71354 -0.11329 0.7184 -0.11722 C 0.73108 -0.12739 0.74323 -0.13734 0.75677 -0.14635 C 0.76441 -0.15167 0.76823 -0.15815 0.77691 -0.16115 C 0.80208 -0.17849 0.82778 -0.17849 0.85764 -0.18196 C 0.87361 -0.18081 0.88229 -0.18127 0.89601 -0.1778 C 0.92361 -0.17109 0.95035 -0.16185 0.97882 -0.15907 C 0.99045 -0.15514 1.00295 -0.15283 1.0151 -0.15075 C 1.02378 -0.1445 1.03524 -0.14358 1.04549 -0.14034 C 1.06406 -0.12647 1.07014 -0.12416 1.09375 -0.12138 C 1.10764 -0.11815 1.11979 -0.10936 1.1342 -0.10682 C 1.14219 -0.1052 1.15833 -0.10265 1.15833 -0.10242 C 1.22604 -0.10497 1.25191 -0.10404 1.30365 -0.11098 C 1.31962 -0.1156 1.33559 -0.11884 1.35208 -0.12138 C 1.35868 -0.1237 1.36597 -0.12439 1.37222 -0.12763 C 1.37483 -0.12901 1.37604 -0.13225 1.37847 -0.1341 C 1.38003 -0.13526 1.38247 -0.13526 1.38438 -0.13595 C 1.38889 -0.14057 1.39462 -0.14381 1.39844 -0.14867 C 1.40677 -0.15907 1.39253 -0.1519 1.4066 -0.15699 C 1.41667 -0.17225 1.43542 -0.19283 1.45295 -0.19861 C 1.46076 -0.21086 1.46962 -0.21294 1.48333 -0.21965 C 1.49288 -0.2245 1.49757 -0.23306 1.50747 -0.2363 C 1.50938 -0.23768 1.51128 -0.2393 1.51354 -0.24046 C 1.51597 -0.24161 1.51927 -0.24138 1.52153 -0.24277 C 1.52674 -0.24554 1.53021 -0.25133 1.53576 -0.25317 C 1.54809 -0.25734 1.55712 -0.26335 1.56788 -0.26982 C 1.57101 -0.27144 1.57934 -0.27306 1.58212 -0.27398 C 1.59323 -0.27699 1.60347 -0.28138 1.61441 -0.28462 C 1.62552 -0.29156 1.63594 -0.29502 1.64878 -0.29687 C 1.68038 -0.30867 1.7217 -0.3082 1.75365 -0.30959 C 1.7658 -0.31375 1.77743 -0.31699 1.7901 -0.32 C 1.7934 -0.32069 1.79688 -0.32138 1.8 -0.32231 C 1.80417 -0.32323 1.81233 -0.32624 1.81233 -0.32601 C 1.81719 -0.33364 1.82309 -0.33757 1.8283 -0.34497 C 1.83281 -0.35144 1.8375 -0.3637 1.84653 -0.3637 E">
                                      <p:cBhvr>
                                        <p:cTn id="21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nodeType="click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0.01202 C -0.00643 0.0141 -0.01129 0.01942 -0.01771 0.0215 C -0.025 0.02382 -0.03143 0.02682 -0.03906 0.02867 C -0.06302 0.04 -0.08854 0.04809 -0.11511 0.05087 C -0.16337 0.06173 -0.21146 0.07052 -0.26129 0.07306 C -0.30035 0.07792 -0.28073 0.07607 -0.31997 0.07861 C -0.34931 0.07723 -0.37847 0.07653 -0.40764 0.07468 C -0.42327 0.07376 -0.43993 0.06289 -0.45434 0.05827 C -0.47084 0.04671 -0.45295 0.05757 -0.47188 0.05087 C -0.48021 0.04809 -0.48924 0.03746 -0.4974 0.03607 C -0.50903 0.03399 -0.504 0.03538 -0.51302 0.03237 C -0.51806 0.0252 -0.525 0.02104 -0.53056 0.0141 C -0.53281 0.00717 -0.53611 0.00139 -0.54028 -0.00462 C -0.54358 -0.01387 -0.54722 -0.01965 -0.55191 -0.02844 C -0.55538 -0.04462 -0.55868 -0.05896 -0.56354 -0.07468 C -0.56684 -0.08555 -0.56788 -0.09572 -0.57327 -0.1059 C -0.58021 -0.13618 -0.57014 -0.09642 -0.57934 -0.12254 C -0.58316 -0.13387 -0.58281 -0.14636 -0.58698 -0.15769 C -0.5915 -0.1704 -0.59549 -0.18335 -0.59879 -0.19653 C -0.60139 -0.2074 -0.60313 -0.21757 -0.60851 -0.22774 C -0.61181 -0.24277 -0.62535 -0.27029 -0.63959 -0.27954 C -0.64931 -0.29295 -0.63629 -0.2763 -0.65139 -0.2904 C -0.66233 -0.30081 -0.65156 -0.29618 -0.6632 -0.29988 C -0.66979 -0.30451 -0.67466 -0.30844 -0.68264 -0.31075 C -0.69202 -0.31699 -0.70295 -0.31815 -0.71372 -0.32185 C -0.73316 -0.32139 -0.75278 -0.32116 -0.77222 -0.32 C -0.78646 -0.31931 -0.79306 -0.29665 -0.80156 -0.28879 C -0.80643 -0.27907 -0.80972 -0.27075 -0.8191 -0.26474 C -0.83525 -0.24208 -0.84184 -0.20948 -0.86597 -0.19283 C -0.86841 -0.18543 -0.87066 -0.1822 -0.87743 -0.17803 C -0.88073 -0.17295 -0.88455 -0.16832 -0.88733 -0.16324 C -0.88837 -0.16162 -0.88802 -0.15907 -0.88924 -0.15769 C -0.89063 -0.15584 -0.89323 -0.15537 -0.89497 -0.15399 C -0.8974 -0.15237 -0.89931 -0.15052 -0.90104 -0.14844 C -0.91181 -0.13503 -0.90139 -0.14266 -0.91268 -0.13549 C -0.92188 -0.12231 -0.91597 -0.12532 -0.9283 -0.12254 C -0.93854 -0.10936 -0.95452 -0.09665 -0.9691 -0.08763 C -0.97535 -0.07954 -0.98091 -0.07746 -0.98872 -0.07098 C -1.00556 -0.05734 -1.02101 -0.04393 -1.04323 -0.03954 C -1.05156 -0.03399 -1.05695 -0.0326 -1.06667 -0.03029 C -1.07726 -0.02381 -1.07031 -0.02728 -1.0882 -0.02289 C -1.09514 -0.02127 -1.10955 -0.01919 -1.10955 -0.01896 C -1.12379 -0.01988 -1.13837 -0.01965 -1.15261 -0.02127 C -1.15538 -0.0215 -1.15747 -0.02428 -1.16042 -0.02497 C -1.16684 -0.02636 -1.17344 -0.02613 -1.17986 -0.02659 C -1.20156 -0.03329 -1.22413 -0.03607 -1.24601 -0.04162 C -1.25365 -0.04601 -1.26129 -0.04532 -1.26945 -0.04879 C -1.28959 -0.05734 -1.27396 -0.05225 -1.28698 -0.05618 C -1.29271 -0.06173 -1.29879 -0.06728 -1.30452 -0.07283 C -1.31129 -0.07931 -1.30625 -0.07931 -1.31059 -0.08578 C -1.31198 -0.08786 -1.31441 -0.08925 -1.31632 -0.0911 C -1.32413 -0.09988 -1.32917 -0.11052 -1.33785 -0.11884 C -1.35261 -0.13318 -1.36615 -0.14312 -1.3842 -0.15399 C -1.3908 -0.15792 -1.39653 -0.16277 -1.40382 -0.16509 C -1.4066 -0.16694 -1.40886 -0.16902 -1.41181 -0.17063 C -1.41424 -0.17202 -1.41702 -0.17272 -1.41945 -0.1741 C -1.4217 -0.17572 -1.42327 -0.17803 -1.42535 -0.17988 C -1.42847 -0.18243 -1.4316 -0.1852 -1.43507 -0.18728 C -1.4375 -0.1889 -1.44045 -0.18936 -1.44288 -0.19075 C -1.44497 -0.19191 -1.44688 -0.19306 -1.44861 -0.19445 C -1.45834 -0.20116 -1.46441 -0.20763 -1.47587 -0.2111 C -1.50174 -0.22728 -1.53334 -0.23722 -1.56372 -0.24069 C -1.60643 -0.25133 -1.65764 -0.24439 -1.70226 -0.24254 C -1.72761 -0.23838 -1.75226 -0.23653 -1.7783 -0.23514 C -1.78785 -0.23376 -1.79896 -0.23237 -1.80747 -0.22774">
                                      <p:cBhvr>
                                        <p:cTn id="24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89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00908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2996720" y="260280"/>
            <a:ext cx="4611960" cy="307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-8101080" y="692280"/>
            <a:ext cx="9001080" cy="5715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8101080" y="1773360"/>
            <a:ext cx="8572320" cy="571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-304920" y="6237360"/>
            <a:ext cx="393840" cy="39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fill="hold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01 0.39469 C -0.13993 0.4044 -0.14913 0.40555 -0.20191 0.40209 C -0.22344 0.39723 -0.24514 0.3963 -0.2665 0.38914 C -0.28334 0.38428 -0.30035 0.37781 -0.31788 0.37365 C -0.36181 0.34775 -0.29827 0.38359 -0.34653 0.3607 C -0.35816 0.35515 -0.36893 0.34775 -0.38056 0.3422 C -0.39011 0.32856 -0.38125 0.33896 -0.39948 0.32694 C -0.40521 0.32301 -0.41007 0.31723 -0.41632 0.31399 C -0.41962 0.31145 -0.42309 0.31006 -0.42656 0.30821 C -0.43924 0.30035 -0.4467 0.28972 -0.46094 0.28486 C -0.46459 0.28162 -0.46858 0.27746 -0.4724 0.27445 C -0.4757 0.27191 -0.47969 0.27191 -0.48281 0.2696 C -0.49618 0.25896 -0.50434 0.24948 -0.51841 0.24301 C -0.52483 0.23422 -0.53264 0.22821 -0.54063 0.22266 C -0.54705 0.21226 -0.55469 0.20648 -0.5625 0.19931 C -0.56702 0.19422 -0.57031 0.18798 -0.57431 0.18313 C -0.57726 0.17758 -0.57865 0.17018 -0.5816 0.16463 C -0.58854 0.15168 -0.59809 0.13873 -0.60538 0.12578 C -0.60886 0.11908 -0.61493 0.10474 -0.61893 0.09989 C -0.62014 0.09827 -0.62222 0.09827 -0.62413 0.09665 C -0.62639 0.09503 -0.62865 0.09365 -0.63091 0.0918 C -0.63299 0.09018 -0.6342 0.08763 -0.63577 0.08694 C -0.64115 0.08209 -0.64827 0.08139 -0.65486 0.07815 C -0.68594 0.08139 -0.71511 0.08948 -0.74653 0.0918 C -0.7632 0.09573 -0.77917 0.09989 -0.79601 0.10243 C -0.80486 0.10151 -0.81406 0.10058 -0.82292 0.09989 C -0.83854 0.09735 -0.85243 0.08139 -0.86736 0.07584 C -0.87379 0.07076 -0.88143 0.0659 -0.88802 0.06035 C -0.89792 0.05064 -0.90209 0.04509 -0.91337 0.03931 C -0.92847 0.0222 -0.92136 0.02636 -0.93195 0.02081 C -0.94011 0.0118 -0.94948 0.00694 -0.95747 -0.00185 C -0.98195 -0.02936 -1.00712 -0.05526 -1.03559 -0.07075 C -1.04306 -0.08115 -1.05 -0.08508 -1.05972 -0.09179 C -1.07205 -0.09872 -1.07743 -0.10612 -1.09167 -0.10936 C -1.12188 -0.10844 -1.15261 -0.10844 -1.18212 -0.10127 C -1.22483 -0.09179 -1.26476 -0.06728 -1.30851 -0.06242 C -1.34132 -0.04878 -1.31563 -0.05849 -1.3967 -0.06242 C -1.42795 -0.06404 -1.45521 -0.07953 -1.4849 -0.08832 C -1.49323 -0.09479 -1.5007 -0.10474 -1.50886 -0.10936 C -1.51216 -0.11167 -1.51597 -0.1126 -1.51893 -0.11514 C -1.52101 -0.11583 -1.52257 -0.11907 -1.52431 -0.12 C -1.52743 -0.12231 -1.53455 -0.12462 -1.53455 -0.12393 C -1.54531 -0.13618 -1.55955 -0.14011 -1.57188 -0.14566 C -1.58611 -0.15213 -1.59913 -0.16208 -1.6125 -0.16693 C -1.64219 -0.16578 -1.67257 -0.17086 -1.70104 -0.16208 C -1.70903 -0.15861 -1.71667 -0.15144 -1.72466 -0.14913 C -1.74827 -0.13919 -1.77379 -0.13502 -1.79809 -0.13271 C -1.8099 -0.13433 -1.82309 -0.1304 -1.83368 -0.13849 C -1.84896 -0.14982 -1.85434 -0.16578 -1.87101 -0.17502 C -1.88073 -0.17988 -1.89011 -0.18381 -1.89983 -0.18774 C -1.90452 -0.18936 -1.91372 -0.19237 -1.91372 -0.19167 E">
                                      <p:cBhvr>
                                        <p:cTn id="6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nodeType="click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112 -17 L -4.21965 -6 C 0.00295000000000023 -0.00138000000000016 0.00573 -0.00277 0.00816 -0.00439 C 0.0125 -0.00693 0.02031 -0.01271 0.02031 -0.01248 C 0.02587 -0.02104 0.04236 -0.03653 0.0526 -0.04 C 0.06076 -0.05133 0.06962 -0.06774 0.07899 -0.07768 C 0.08559 -0.08462 0.09653 -0.08855 0.10503 -0.09225 C 0.11441 -0.10173 0.12569 -0.10497 0.13733 -0.11098 C 0.16875 -0.12763 0.18924 -0.12786 0.22622 -0.12994 C 0.24722 -0.12855 0.26788 -0.12693 0.28889 -0.12554 C 0.29167 -0.12531 0.30521 -0.12277 0.30885 -0.12138 C 0.31528 -0.11953 0.32708 -0.11514 0.32708 -0.11491 C 0.34826 -0.09364 0.36875 -0.083 0.39566 -0.07121 C 0.4059 -0.06659 0.4158 -0.05988 0.42604 -0.05456 C 0.43524 -0.04971 0.44462 -0.04994 0.45399 -0.04624 C 0.47188 -0.03907 0.48958 -0.0356 0.50851 -0.03352 C 0.53333 -0.03422 0.55833 -0.03445 0.58316 -0.03583 C 0.59219 -0.0363 0.60938 -0.04185 0.60938 -0.04161 C 0.61858 -0.04832 0.62934 -0.05086 0.63976 -0.05456 C 0.66024 -0.06196 0.65521 -0.06381 0.6658 -0.07329 C 0.69583 -0.09965 0.65347 -0.06173 0.68212 -0.0837 C 0.68507 -0.08624 0.68715 -0.08948 0.69028 -0.09225 C 0.69219 -0.09364 0.69427 -0.09502 0.69618 -0.09641 C 0.69688 -0.09849 0.6967 -0.10104 0.69809 -0.10265 C 0.69965 -0.10404 0.7026 -0.10335 0.70434 -0.1045 C 0.70938 -0.1082 0.71354 -0.11329 0.7184 -0.11722 C 0.73108 -0.12739 0.74323 -0.13734 0.75677 -0.14635 C 0.76441 -0.15167 0.76823 -0.15815 0.77691 -0.16115 C 0.80208 -0.17849 0.82778 -0.17849 0.85764 -0.18196 C 0.87361 -0.18081 0.88229 -0.18127 0.89601 -0.1778 C 0.92361 -0.17109 0.95035 -0.16185 0.97882 -0.15907 C 0.99045 -0.15514 1.00295 -0.15283 1.0151 -0.15075 C 1.02378 -0.1445 1.03524 -0.14358 1.04549 -0.14034 C 1.06406 -0.12647 1.07014 -0.12416 1.09375 -0.12138 C 1.10764 -0.11815 1.11979 -0.10936 1.1342 -0.10682 C 1.14219 -0.1052 1.15833 -0.10265 1.15833 -0.10242 C 1.22604 -0.10497 1.25191 -0.10404 1.30365 -0.11098 C 1.31962 -0.1156 1.33559 -0.11884 1.35208 -0.12138 C 1.35868 -0.1237 1.36597 -0.12439 1.37222 -0.12763 C 1.37483 -0.12901 1.37604 -0.13225 1.37847 -0.1341 C 1.38003 -0.13526 1.38247 -0.13526 1.38438 -0.13595 C 1.38889 -0.14057 1.39462 -0.14381 1.39844 -0.14867 C 1.40677 -0.15907 1.39253 -0.1519 1.4066 -0.15699 C 1.41667 -0.17225 1.43542 -0.19283 1.45295 -0.19861 C 1.46076 -0.21086 1.46962 -0.21294 1.48333 -0.21965 C 1.49288 -0.2245 1.49757 -0.23306 1.50747 -0.2363 C 1.50938 -0.23768 1.51128 -0.2393 1.51354 -0.24046 C 1.51597 -0.24161 1.51927 -0.24138 1.52153 -0.24277 C 1.52674 -0.24554 1.53021 -0.25133 1.53576 -0.25317 C 1.54809 -0.25734 1.55712 -0.26335 1.56788 -0.26982 C 1.57101 -0.27144 1.57934 -0.27306 1.58212 -0.27398 C 1.59323 -0.27699 1.60347 -0.28138 1.61441 -0.28462 C 1.62552 -0.29156 1.63594 -0.29502 1.64878 -0.29687 C 1.68038 -0.30867 1.7217 -0.3082 1.75365 -0.30959 C 1.7658 -0.31375 1.77743 -0.31699 1.7901 -0.32 C 1.7934 -0.32069 1.79688 -0.32138 1.8 -0.32231 C 1.80417 -0.32323 1.81233 -0.32624 1.81233 -0.32601 C 1.81719 -0.33364 1.82309 -0.33757 1.8283 -0.34497 C 1.83281 -0.35144 1.8375 -0.3637 1.84653 -0.3637 E">
                                      <p:cBhvr>
                                        <p:cTn id="9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nodeType="click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0.01202 C -0.00643 0.0141 -0.01129 0.01942 -0.01771 0.0215 C -0.025 0.02382 -0.03143 0.02682 -0.03906 0.02867 C -0.06302 0.04 -0.08854 0.04809 -0.11511 0.05087 C -0.16337 0.06173 -0.21146 0.07052 -0.26129 0.07306 C -0.30035 0.07792 -0.28073 0.07607 -0.31997 0.07861 C -0.34931 0.07723 -0.37847 0.07653 -0.40764 0.07468 C -0.42327 0.07376 -0.43993 0.06289 -0.45434 0.05827 C -0.47084 0.04671 -0.45295 0.05757 -0.47188 0.05087 C -0.48021 0.04809 -0.48924 0.03746 -0.4974 0.03607 C -0.50903 0.03399 -0.504 0.03538 -0.51302 0.03237 C -0.51806 0.0252 -0.525 0.02104 -0.53056 0.0141 C -0.53281 0.00717 -0.53611 0.00139 -0.54028 -0.00462 C -0.54358 -0.01387 -0.54722 -0.01965 -0.55191 -0.02844 C -0.55538 -0.04462 -0.55868 -0.05896 -0.56354 -0.07468 C -0.56684 -0.08555 -0.56788 -0.09572 -0.57327 -0.1059 C -0.58021 -0.13618 -0.57014 -0.09642 -0.57934 -0.12254 C -0.58316 -0.13387 -0.58281 -0.14636 -0.58698 -0.15769 C -0.5915 -0.1704 -0.59549 -0.18335 -0.59879 -0.19653 C -0.60139 -0.2074 -0.60313 -0.21757 -0.60851 -0.22774 C -0.61181 -0.24277 -0.62535 -0.27029 -0.63959 -0.27954 C -0.64931 -0.29295 -0.63629 -0.2763 -0.65139 -0.2904 C -0.66233 -0.30081 -0.65156 -0.29618 -0.6632 -0.29988 C -0.66979 -0.30451 -0.67466 -0.30844 -0.68264 -0.31075 C -0.69202 -0.31699 -0.70295 -0.31815 -0.71372 -0.32185 C -0.73316 -0.32139 -0.75278 -0.32116 -0.77222 -0.32 C -0.78646 -0.31931 -0.79306 -0.29665 -0.80156 -0.28879 C -0.80643 -0.27907 -0.80972 -0.27075 -0.8191 -0.26474 C -0.83525 -0.24208 -0.84184 -0.20948 -0.86597 -0.19283 C -0.86841 -0.18543 -0.87066 -0.1822 -0.87743 -0.17803 C -0.88073 -0.17295 -0.88455 -0.16832 -0.88733 -0.16324 C -0.88837 -0.16162 -0.88802 -0.15907 -0.88924 -0.15769 C -0.89063 -0.15584 -0.89323 -0.15537 -0.89497 -0.15399 C -0.8974 -0.15237 -0.89931 -0.15052 -0.90104 -0.14844 C -0.91181 -0.13503 -0.90139 -0.14266 -0.91268 -0.13549 C -0.92188 -0.12231 -0.91597 -0.12532 -0.9283 -0.12254 C -0.93854 -0.10936 -0.95452 -0.09665 -0.9691 -0.08763 C -0.97535 -0.07954 -0.98091 -0.07746 -0.98872 -0.07098 C -1.00556 -0.05734 -1.02101 -0.04393 -1.04323 -0.03954 C -1.05156 -0.03399 -1.05695 -0.0326 -1.06667 -0.03029 C -1.07726 -0.02381 -1.07031 -0.02728 -1.0882 -0.02289 C -1.09514 -0.02127 -1.10955 -0.01919 -1.10955 -0.01896 C -1.12379 -0.01988 -1.13837 -0.01965 -1.15261 -0.02127 C -1.15538 -0.0215 -1.15747 -0.02428 -1.16042 -0.02497 C -1.16684 -0.02636 -1.17344 -0.02613 -1.17986 -0.02659 C -1.20156 -0.03329 -1.22413 -0.03607 -1.24601 -0.04162 C -1.25365 -0.04601 -1.26129 -0.04532 -1.26945 -0.04879 C -1.28959 -0.05734 -1.27396 -0.05225 -1.28698 -0.05618 C -1.29271 -0.06173 -1.29879 -0.06728 -1.30452 -0.07283 C -1.31129 -0.07931 -1.30625 -0.07931 -1.31059 -0.08578 C -1.31198 -0.08786 -1.31441 -0.08925 -1.31632 -0.0911 C -1.32413 -0.09988 -1.32917 -0.11052 -1.33785 -0.11884 C -1.35261 -0.13318 -1.36615 -0.14312 -1.3842 -0.15399 C -1.3908 -0.15792 -1.39653 -0.16277 -1.40382 -0.16509 C -1.4066 -0.16694 -1.40886 -0.16902 -1.41181 -0.17063 C -1.41424 -0.17202 -1.41702 -0.17272 -1.41945 -0.1741 C -1.4217 -0.17572 -1.42327 -0.17803 -1.42535 -0.17988 C -1.42847 -0.18243 -1.4316 -0.1852 -1.43507 -0.18728 C -1.4375 -0.1889 -1.44045 -0.18936 -1.44288 -0.19075 C -1.44497 -0.19191 -1.44688 -0.19306 -1.44861 -0.19445 C -1.45834 -0.20116 -1.46441 -0.20763 -1.47587 -0.2111 C -1.50174 -0.22728 -1.53334 -0.23722 -1.56372 -0.24069 C -1.60643 -0.25133 -1.65764 -0.24439 -1.70226 -0.24254 C -1.72761 -0.23838 -1.75226 -0.23653 -1.7783 -0.23514 C -1.78785 -0.23376 -1.79896 -0.23237 -1.80747 -0.22774">
                                      <p:cBhvr>
                                        <p:cTn id="12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99378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9070920" cy="6373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 rot="540000">
            <a:off x="2050920" y="4581360"/>
            <a:ext cx="2021040" cy="132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-1260360" y="-819000"/>
            <a:ext cx="950436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-214200" y="579924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28520"/>
            <a:ext cx="8228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2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56000" y="3252960"/>
            <a:ext cx="5688000" cy="3948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360" y="33480"/>
            <a:ext cx="5319720" cy="3351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-144360" y="3384720"/>
            <a:ext cx="5111640" cy="3384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429000" y="33480"/>
            <a:ext cx="5715000" cy="3351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1T20:26:39Z</dcterms:created>
  <dc:creator>евросеть</dc:creator>
  <dc:description/>
  <dc:language>en-US</dc:language>
  <cp:lastModifiedBy>DNA7 X64</cp:lastModifiedBy>
  <dcterms:modified xsi:type="dcterms:W3CDTF">2018-04-12T12:42:53Z</dcterms:modified>
  <cp:revision>8</cp:revision>
  <dc:subject/>
  <dc:title>Слайд 1</dc:title>
</cp:coreProperties>
</file>